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017-0109-40F0-AA81-41EE7F8F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F87-765E-4923-AB47-C830489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A70-80CA-4ABE-A805-2AFC531F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676-7DEA-4C7B-88E4-CCDE1B0D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A10-8EEB-4F47-ABED-0A59F32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724-5AD4-4FAD-AF98-DCE417D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AEC-14D1-4604-BF16-053739F9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DED-D2D3-42F7-A7BE-4475111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3D8-B2C0-4903-820B-4AE164A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50D-9346-4C2E-BEA7-822315AF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31E-5B56-4DCB-82BB-0C4AB3E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B60-4740-477F-A66D-F228ABDA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A14-9B3E-4512-BD6A-6F20CFD3191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系列单片机中断系统及其程序设计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一般情况下，单片机程序是按照先后顺序执行代码的。有的时候，为了优先处理特定的任务，需要打断主程序的运行。这便需要单片机具有处理中断的能力。当微处理器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在执行程序的过程中，如果外部硬件或者内部组件有紧急的请求，此时中断系统可以将当前的程序暂停，优先处理中断请求。当中断请求处理完毕的时候，再返回来继续执行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是计算机或者单片机的重要功能部件，有了中断系统，便可以使微处理器具备对外部的异步事件进行处理的能力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中断源，两级中断优先级，具有完善的指令控制能力。使用单片机的中断系统可以很方便地完成各种外部硬件响应的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在硬件上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支持，在软件上可以使用控制寄存器来进行控制，为用户提供了十分方便的操作接口。下面分别介绍中断请求、中断允许以及中断优先级的标志及访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断请求标志用于中断发生时，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出请求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中断请求，分别对应一个中断请求标志位。其中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外部中断和定时器溢出中断，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串行接口中断。下面分别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定义格式，如图所示。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其中的每一位都是可以进行位寻址的，位地址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下面分别介绍各位的定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54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允许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标志用于允许或者禁止相应的中断请求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允许或禁止标志位，其均由一个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位定义格式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5562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优先级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标志用于设置中断的优先等级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支持两级中断优先级，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优先级标志位，由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位的定义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39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过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步：中断响应，中断处理和中断返回。下面分别介绍这三个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响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响应是指在单片机主程序运行过程中，如果遇到中断请求，在满足中断响应条件的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该中断做出的响应。在实际的中断处理时，需要注意如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方面的问题：中断响应的条件、中断响应的过程和中断响应的时间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响应的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流程图，如图所示。从图中可以看出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过程可以分为两类，一个是硬件自动完成的部分，另一个是软件处理的部分。这里主要介绍的中断处理是指中断的软件处理过程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3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返回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返回是指中断服务例程结束后，返回主程序的过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中断服务程序的返回比较简单，直接在中断服务程序最后面加上一个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可。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时，主要完成如下两个方面的工作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主程序的断点地址送回程序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知中断系统已将当前中断处理完毕，清除优先级状态触发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的撤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请求的撤离主要的目的是，保证对于一次中断信号只执行一次中断响应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后，需要及时将中断请求标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标志位清除，否则将引起一个中断信号触发多次中断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可以采用两种方式解决中断请求的撤离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自动清除中断标志。对于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说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将自动清除该中断请求的标志位，无需软件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软件清除中断标志。对于串行接口的中断请求，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硬件不会自动清除中断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因此需要在中断服务程序中用软件来人工清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的各个中断源及其程序设计。下面将分别介绍在程序设计中如何实现中断的响应以及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系统是现代的微处理器都具备的，不只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所特有的。不同的微处理器对中断系统支持的程度不同。中断其实是现实世界的一种反映。例如，某人正在看书，另外烧水的水壶开了，这个人便要去将水壶放好，等倒完水后再回来看书。这个过程便是“执行主程序（看书）—中断（水壶开，倒水）—中断返回（继续看书）”的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，分别对应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和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。这里举例讲解外部中断的程序设计。假设要使外部中断发生的时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分别反向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单片机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照前面章节，计算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÷6MHz=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=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计算定时器初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求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=7692=1E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器的结构特性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初值应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0=0F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=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使用串行口的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来发送数据。如果采用汇编语句进行程序设计，其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主程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23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中断服务例程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2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ON,#00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串行口模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开启串行中断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#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数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送入累加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,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数据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启动串行输出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准备下一次数据发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扩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对于很多的测控系统，有时外部有很多中断源需要处理，这样外部中断源显然不够用。因此需要进行外部中断源的扩展，从而实现对多个外部中断的响应处理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使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和查询方式扩展两种方法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外部中断源的原理是：当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计数值达到最大值后，再有一个计数信号输入，便将引发溢出中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应用中，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值赋为计数最大值，然后再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输入端作为外部中断源的输入端，当外部中断产生的时候，将给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一个计数信号，导致中断响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有多种工作模式，对于不同的工作模式有不同的处理方法，主要有以下两种处理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其他模式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查询方式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方式扩展外部中断源的示意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使用查询方式扩展外部中断源，可以获得较多的外部中断源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通过来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10~INT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的有效信号为高电平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门连接到端口，外部中断信号同时也分别接到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某个外部扩展中断发生的时候，输出高电平的有效信号，经反向后转换成为低电平的有效信号输入端口。此时端口出现负跳变，引发中断。此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响应中断，并开始扫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，以确定哪一个中断提出申请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中断系统的基本概述，并重点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中断类型以及中断的各种控制标准位。接着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过程，并通过实例详细讲述了各种中断源的编程方式。最后还介绍了外部中断源的扩展方式及其程序设计。中断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重要的系统资源，合理使用中断系统，可以减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负担，简化程序设计，实现对外部信号的实时处理。因此，熟练掌握本章内容是学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什么是中断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处理器引入中断后，便形成了其特有的概念，主要有如下几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源：能够产生中断请求的硬件或软件资源称为中断源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程序：中断发生前正在执行的程序代码称为主程序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：中断发生时，主程序被断开的程序代码位置称为断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：在微处理器中，能够实现中断响应、中断处理和中断返回的功能部件称为中断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利用这些基本概念来描述中断及其处理过程，即微处理器执行主程序，此时如果某个中断源产生中断请求，并发送给中断系统。中断系统响应该中断请求，并在断点处中断主程序的执行转而执行中断服务例程。当中断服务结束后，中断系统返回主程序的断点处，继续执行向下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用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测控应用系统中，中断的使用主要体现在如下几个方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实时信号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外部信号的检测可以采用查询和中断两种方式。其中查询方式是在主程序执行的过程中，按照一定的时间间隔循环扫描端口，根据端口电平的改变从而获知外部的事件的发生。由于扫描端口是有一定时间间隔的，因此有可能会错过对事件的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系统故障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系统运行过程中，如果遇到电源突变、计算溢出等，则可能导致无法预测的硬件及软件方面的故障。使用以往的方法，需要关闭整个系统，然后进行故障处理。此时有些系统执行过程中的参数便无法保存，有可能导致不可挽救的损失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需要解决的问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完整的中断系统需要合理处理中断识别、中断响应、中断优先级以及中断嵌套等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识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识别是指微处理器对各个中断的区分。一个微处理器往往不止支持一个中断，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支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支持多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。这些中断需要对应不同的中断服务程序，因此，中断系统必须能够对各个不同的中断源进行区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响应及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响应是中断发生后所需要处理的工作。而中断返回则是中断处理结束后所需要处理的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优先级及中断嵌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的中断系统一般都支持多个中断源，此时经常遇到有两个中断同时提出请求，以及在一个中断得到请求并进行处理的进程中，另外一个中断请求随之发生并需要得到处理的情况。为了有效地解决这两个问题，在微处理器的中断系统中提出了中断优先级的概念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处理器一般都支持多个中断源，通常按照中断源的不同，大致可以分为三类：外部中断源、定时中断源和串行中断源。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为例，其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串行中断源。下面分别介绍这三类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部中断源是由外部硬件电路产生的中断。外部中断源一般采用两种触发方式：沿触发方式（上升沿或下降沿有效）和电平触发方式（高电平或低电平有效）。下面分别进行介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沿触发方式，在微处理器的时钟周期内如果检测到有效的电平变化信号（上升沿或下降沿），则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电平触发方式，在微处理器的时钟周期内如果检测到有效的电平信号（高电平或低电平），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中断源是由微处理器内部集成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产生的中断。其以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溢出信号作为中断请求，当溢出发生的时候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请求并开始执行相应的中断服务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中断源是微处理器在进行串行通信的时候，每个数据发送或接收完毕产生的中断请求。其来自于微处理器的内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这个中断请求后，可以再次发送串行数据或者读入接收到的串行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当进行串行数据传输的时候，如果发送或接收串行数据完成的时候，硬件将置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中断源的识别和响应是通过中断入口地址，即中断矢量来实现的。当某个中断发生的时候，首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，将中断源的入口地址装载到程序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中断服务程序便是从该地址开始执行的。当中断服务程序执行完毕后，将返回原来的断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6:42Z</dcterms:created>
  <dc:creator>cheng</dc:creator>
  <dc:description/>
  <dc:language>en-US</dc:language>
  <cp:lastModifiedBy>cheng</cp:lastModifiedBy>
  <dcterms:modified xsi:type="dcterms:W3CDTF">2008-10-13T07:07:53Z</dcterms:modified>
  <cp:revision>3</cp:revision>
  <dc:subject/>
  <dc:title>第18章  51系列单片机中断系统及其程序设计</dc:title>
</cp:coreProperties>
</file>